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MERA.WAV" ContentType="audio/x-wav"/>
  <Override PartName="/ppt/media/CHIMES.WAV" ContentType="audio/x-wav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BEA2-0C04-4A9A-A247-70031362FD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Quiz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xon7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Quiz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xon7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factors does not change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 A x B = B 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factors does not change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 A x B = B 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by which another number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by which another number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multi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multi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any number and 1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x 1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any number and 1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x 1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multi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multi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mount left afte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mount left afte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imes any number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0 x 4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imes any number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0 x 4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added to find a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added to find a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addends does not affect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+ b) + c = a + (b +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addends does not affect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+ b) + c = a + (b +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factors does not affect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x b) x c = a x (b x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factors does not affect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x b) x c = a x (b x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udy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udy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addends does not change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+ B = B +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addends does not change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+ B = B +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ree numbers related by addition and subtraction or by multiplication a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2+3=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+2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=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ree numbers related by addition and subtraction or by multiplication a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2+3=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+2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=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any number and 0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any number and 0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 that “undo”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/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 that “undo”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/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from which another number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- 3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from which another number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- 3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h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- A 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h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- A 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2A5D-B256-43D7-A39E-E246A2E0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8DC3-8739-4D21-96F9-8F422776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1BC3-3EAB-4795-A33B-9B42C867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2B92-782A-44F4-987B-79F34668E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4D6E-FF74-4B03-9949-2C21A057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ACDE-42E2-411D-BF1F-39EA4FE1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C083-950A-4664-BB16-2129765E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8AD5-A432-471B-8C35-5E385226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26BD-3D2C-40C5-8E73-002F7AD4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9829-FCD8-47B4-9A2E-F2385815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3656-F0C2-4392-A97B-4FE0850E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244C-F8E9-4316-96EF-E424D9EE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B040-AFCB-407E-928D-DDE9AAED7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Vocabulary Quiz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Review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09320" y="3809520"/>
            <a:ext cx="4419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ssons 1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axon7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Object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1699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19320" y="914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Su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219320" y="380880"/>
            <a:ext cx="73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ommutative Property of Multiplic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hanging the order of factors does not change their produc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 A x B = B x 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ivid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number that is divid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ivis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219320" y="3048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number by which another number is divid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Facto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219320" y="3048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wo or more numbers that are multipli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990720" y="10666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dentity Property of Multipl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19320" y="3048120"/>
            <a:ext cx="7086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product of any number and 1 is equal to the initial numb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x 1 = 7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roduc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multiplicatio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Quoti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di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Remaind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n amount left after di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990720" y="10666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Zero Property of Multipl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219320" y="3048120"/>
            <a:ext cx="70866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Zero times any number is zer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Ex. 0 x 4 =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219320" y="38088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Adden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752480" y="2057400"/>
            <a:ext cx="6172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wo or more numbers that are added to find a su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990720" y="106668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Associative Property of Addi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219320" y="3048120"/>
            <a:ext cx="7086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grouping of addends does not affect their su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(a + b) + c = a + (b + c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990720" y="106668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Associative Property of Multiplica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19320" y="3048120"/>
            <a:ext cx="7086600" cy="30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grouping of factors does not affect their produc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x. (a x b) x c = a x (b x 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219320" y="1066680"/>
            <a:ext cx="70866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ffffff"/>
                </a:solidFill>
                <a:latin typeface="Comic Sans MS"/>
              </a:rPr>
              <a:t>Study!!!!!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bject 4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129564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219320" y="380880"/>
            <a:ext cx="6705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Commutative Property of Addi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752480" y="2971800"/>
            <a:ext cx="61722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hanging the order of addends does not change their su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 + B = B + 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19320" y="380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Differenc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52480" y="2895480"/>
            <a:ext cx="61722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The result of subtrac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219320" y="380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Fact Famil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676520" y="1981080"/>
            <a:ext cx="6172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 group of three numbers related by addition and subtraction or by multiplication and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x. 2+3=5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3+2=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-2=3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-3=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219320" y="380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dentity Property of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sum of any number and 0 is equal to the initial numb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+ 0 = 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219320" y="380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nverse Oper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219320" y="3048120"/>
            <a:ext cx="7086600" cy="35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Operations that “undo” one anoth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ddition/Subtrac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Multiplication/Divis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219320" y="914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Minu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A number from which another number is subtra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 - 3 = 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219320" y="914400"/>
            <a:ext cx="6858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Comic Sans MS"/>
              </a:rPr>
              <a:t>Subtrahend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219320" y="3048120"/>
            <a:ext cx="7086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A number that is subtra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- A  = 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5:08:59Z</dcterms:created>
  <dc:creator>one1</dc:creator>
  <dc:description/>
  <dc:language>en-US</dc:language>
  <cp:lastModifiedBy>RomaK</cp:lastModifiedBy>
  <dcterms:modified xsi:type="dcterms:W3CDTF">2015-09-04T07:43:12Z</dcterms:modified>
  <cp:revision>11</cp:revision>
  <dc:subject/>
  <dc:title>Vocabulary Quiz Review</dc:title>
</cp:coreProperties>
</file>